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D9DB-45F9-4458-9179-5CB34E683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3890-DFA2-482A-8A22-5CEC09B60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F110-EE8E-4C42-9DF4-1D28A2004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54BE-1AD9-4F5C-9A9A-0DB7B78BB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E622-B3CD-4EE6-AF78-A7FE6619D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955C-25B2-4C14-9CB8-CDED95E91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110B-524C-4495-8D08-52E529D0E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E0C9-2A95-408F-ACDC-AE631CF78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45E5-336F-4D1F-B40F-92941C121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06F9-BBED-4353-8D6D-025DF414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2D05-2BE0-4C1B-BF05-2BBA69E7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80C4-76F4-4C45-A3D9-2D986F4F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E620B-66A7-4374-A32B-0918AAFF560D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77480" y="5964120"/>
            <a:ext cx="258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ioneers of Science &amp; Technolog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6707160" y="6019920"/>
            <a:ext cx="218124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88920" y="4038480"/>
            <a:ext cx="8974080" cy="1862280"/>
          </a:xfrm>
          <a:prstGeom prst="rect">
            <a:avLst/>
          </a:prstGeom>
          <a:solidFill>
            <a:srgbClr val="2f4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88920" y="5661000"/>
            <a:ext cx="8974080" cy="241200"/>
          </a:xfrm>
          <a:prstGeom prst="rect">
            <a:avLst/>
          </a:prstGeom>
          <a:solidFill>
            <a:srgbClr val="427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88920" y="4354560"/>
            <a:ext cx="8974080" cy="129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07000" y="4527720"/>
            <a:ext cx="1063440" cy="9792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141880" y="4729320"/>
            <a:ext cx="623880" cy="574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037200" y="4527720"/>
            <a:ext cx="1063800" cy="9792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7153200" y="4527720"/>
            <a:ext cx="1063800" cy="9792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lcome to Imhotep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Action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238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ak Poin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1557360"/>
            <a:ext cx="7705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Rendering Speed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emory Problem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Lazy GUI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ript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Animation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Futur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mainfrm"/>
          <p:cNvSpPr/>
          <p:nvPr/>
        </p:nvSpPr>
        <p:spPr>
          <a:xfrm>
            <a:off x="704880" y="1681200"/>
            <a:ext cx="547560" cy="957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computr4"/>
          <p:cNvSpPr/>
          <p:nvPr/>
        </p:nvSpPr>
        <p:spPr>
          <a:xfrm>
            <a:off x="2627280" y="1628640"/>
            <a:ext cx="695520" cy="106200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computr2"/>
          <p:cNvSpPr/>
          <p:nvPr/>
        </p:nvSpPr>
        <p:spPr>
          <a:xfrm>
            <a:off x="7380360" y="1916280"/>
            <a:ext cx="901800" cy="903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6" name=""/>
          <p:cNvCxnSpPr>
            <a:stCxn id="113" idx="8"/>
            <a:endCxn id="114" idx="4"/>
          </p:cNvCxnSpPr>
          <p:nvPr/>
        </p:nvCxnSpPr>
        <p:spPr>
          <a:xfrm>
            <a:off x="1266480" y="2160360"/>
            <a:ext cx="1346400" cy="108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59280" y="3645000"/>
            <a:ext cx="4173480" cy="2419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580000" y="2276640"/>
            <a:ext cx="0" cy="1296720"/>
          </a:xfrm>
          <a:prstGeom prst="line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9" name=""/>
          <p:cNvCxnSpPr>
            <a:stCxn id="114" idx="5"/>
            <a:endCxn id="115" idx="10"/>
          </p:cNvCxnSpPr>
          <p:nvPr/>
        </p:nvCxnSpPr>
        <p:spPr>
          <a:xfrm flipV="1">
            <a:off x="3336840" y="2158200"/>
            <a:ext cx="4207680" cy="252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46836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Back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234000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Middle-war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164360" y="2924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Front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Thanks for your time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2565360"/>
            <a:ext cx="756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imhotep.gyeyoung.co.kr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3500280"/>
            <a:ext cx="78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kldp.net/projects/imhotep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bout SV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1557360"/>
            <a:ext cx="7705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alable Vector Graphic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XML Graphics for Web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2D Graphics in XML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Industry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GIS and Mappin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Web Application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obil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View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Edito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Model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Convert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4360" y="1773360"/>
            <a:ext cx="7559640" cy="3960720"/>
            <a:chOff x="684360" y="1773360"/>
            <a:chExt cx="7559640" cy="3960720"/>
          </a:xfrm>
        </p:grpSpPr>
        <p:sp>
          <p:nvSpPr>
            <p:cNvPr id="77" name=""/>
            <p:cNvSpPr/>
            <p:nvPr/>
          </p:nvSpPr>
          <p:spPr>
            <a:xfrm>
              <a:off x="6407280" y="4703760"/>
              <a:ext cx="86364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enu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4360" y="5302080"/>
              <a:ext cx="158724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Ycadv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72360" y="5302080"/>
              <a:ext cx="796680" cy="4320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JGood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411280" y="5302080"/>
              <a:ext cx="273708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Batik 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92720" y="5302080"/>
              <a:ext cx="93492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NetBean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7672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Canva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48000" y="3328920"/>
              <a:ext cx="15112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Lay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48000" y="4105440"/>
              <a:ext cx="489600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Edito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364000" y="4703760"/>
              <a:ext cx="93528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ourc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1964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eview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4360" y="2730600"/>
              <a:ext cx="259236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Converter (Consol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4360" y="3357720"/>
              <a:ext cx="2519280" cy="183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ranscod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19640" y="2730600"/>
              <a:ext cx="475272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Editor (GUI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4360" y="1773360"/>
              <a:ext cx="7488000" cy="7570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Imhotep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380360" y="4703760"/>
              <a:ext cx="863640" cy="95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ode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Undo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oo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003640" y="3328920"/>
              <a:ext cx="17290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Dom Tre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77080" y="3328920"/>
              <a:ext cx="136692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opert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Mod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566748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333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743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李光植</cp:lastModifiedBy>
  <dcterms:modified xsi:type="dcterms:W3CDTF">2005-02-04T03:05:47Z</dcterms:modified>
  <cp:revision>9</cp:revision>
  <dc:subject/>
  <dc:title>PowerPoint Presentation</dc:title>
</cp:coreProperties>
</file>